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264B-B028-4E73-A486-F071A6F5AD6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F978-48AC-4781-979D-D9776089AA1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3E42-B743-4910-9F76-100BB7A8BF1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947A-683B-4EC2-92D2-050B1805E63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5AF2-DCBF-4704-A87C-F26D9B6FF39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A7F7-12DB-49DB-9803-459CD25BF33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74BF-0C1E-4E0E-AE0E-74AFC971862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038F-0931-4326-A05F-5E5FC6D82B6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B01D-6D55-42B2-A4FE-833E9B47898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57A0-C8D8-4C41-A959-1ED15A1E5BB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25B1-EA8C-489A-B9BF-C13CAABB51F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1BBF-A866-465C-8A44-B5DC4B8036A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8ECE-E889-43DE-A0A1-E1B380D999E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회에 유익한 모든 일이 수익을 보장하지는 않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러나 그 일을 통해 지속가능한 수익을 낳을 수 있는 시스템이 조성되어 있다면 그 유익한 일은 자연스럽게 계속될 수 있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누군가 일과 수익 사이의 선순환 고리를 만들어낸다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즉 합리적인 수익 모델을 만들어낸다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EF7F-B503-4C69-868E-1A55B073090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7029-5236-482C-8A85-3A3426DD646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7A69-A2A8-415C-9B95-BFA94A8E016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A79D-46D0-4DF8-8FD4-C2A931F120E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9E77-4E61-41BF-9164-C5C6C562057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050B-B36A-40AA-9703-DB587C1133A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2B2C-00EB-4363-A43F-A73CB236229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892A-F220-4472-A269-1581BBDF8A1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AF5B-DD42-49D6-9A37-92D813B4B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F3B3-E186-4A4F-B6C4-3F2048F9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2826-1891-47FF-8197-95D8D96C3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2CCC-2BB7-416A-AE9B-33D398F38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E334-42C9-47E8-89F7-7AA3DD7CB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6B78-3EF3-4755-B4D1-FD4854B1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45C0-E408-4D8D-AA2E-2BB0FD4A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1242-0E9D-4309-90A6-635F76C0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F1C9-0A92-4DF3-AA7C-73E48AB3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4656-76AA-45E4-A258-AE02C8DF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20D3-C420-4ED6-ABBC-137F4127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6898-EE0E-40E9-AB1E-F4A7CC4E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4B2E-5647-44FC-832C-3B23AF3A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968E-D008-4804-B4F7-FD2AA2D4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1F93-ECFB-444F-81C6-CC55DA53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BA65-1212-45AA-9E20-CFA401C28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DABC-A581-4E12-81F3-BA5D1243C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14A3D0-53CF-455B-A1A6-B334BABD9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ED714A-45E7-4649-ABDD-45103CFC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DC6AAC-6425-4912-97AB-659E9BCC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4442F7-E35A-4266-A387-29921B74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017BE8-C7EF-4676-9E0B-5757E6D7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A2BE-F6F0-4DB6-A553-6E776F75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14D54C-5CD0-47A0-80E1-9856B5AC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8495ED-F978-48CA-8A73-C1AAF1FB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8EBCAA-744E-4AD1-B58D-989083B6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6E4A66-BDB0-41FC-95C8-7724A49E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A16B80-5C31-40B5-88E6-70B7C718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FE646A-7ED4-4433-951A-E73B150D3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18F571-997A-4392-8F6B-42FE60C8D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4BE95-C688-4A83-9152-317B402B6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D7CDB-E1BF-41FE-9353-3365908D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C8631-55DB-425E-A972-F6B8F847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3CFE-A162-462D-9AA4-E81EAEBA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2F659-1E75-4AA9-B8BC-0F112FF7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D4328-8793-4A2B-B76F-B62D5A16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7E4E0-144F-4B00-B6A8-2D838966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B05EE-36B3-4AFC-AF10-1B14443E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691B1-A4B9-448A-9DBE-E96DDF11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675F3-4E18-4ACB-AEE4-C8CC9171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46CFD-6313-4AB2-9AC0-662426F0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22863-38EF-40AC-9669-68A49A212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AC5C5-C7CD-4978-926F-BE22125C7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FCD3-3276-4CCB-8B3E-9D79D14E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0B10-7AC7-49D1-AD53-89122445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1BBA-1F51-4FB4-AB11-38E7D390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3413-19C7-4CF6-8A83-476BC3E4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C474-F705-4D1C-82F0-E78D5A38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811D-8467-4872-AF31-DDB40DE3E1FF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직사각형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사각형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사각형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모서리가 둥근 직사각형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모서리가 둥근 직사각형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직사각형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A066-1E77-4D79-AD63-C1506776F9DD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675C-7CF9-49DD-8194-52A99F03019B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6F6F-C7E3-4510-B433-5B375C98C07D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act.jinbo.net/drupal/node/3010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Trebuchet MS"/>
              </a:rPr>
              <a:t>기술 개발에도 </a:t>
            </a:r>
            <a:br>
              <a:rPr sz="4400"/>
            </a:br>
            <a:r>
              <a:rPr b="0" lang="ko-KR" sz="4400" spc="-1" strike="noStrike">
                <a:solidFill>
                  <a:srgbClr val="ffffff"/>
                </a:solidFill>
                <a:latin typeface="Trebuchet MS"/>
              </a:rPr>
              <a:t>사회적 합의가 필요한가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현대 기술과 공학의 철학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10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2010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년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11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월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12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정동욱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숙의적 과정의 난점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시간이 오래 걸리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한 번에 여러 사람이 함께 참여하기 어려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합의는 어려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사실에서의 합의가 가능하더라도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가치와 선호의 합의는 그보다 훨씬 어려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상충하는 가치의 문제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현재 가능한 기술로는 두 가지 가치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, B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를 함께 실현할 수 없다는 사실을 합의할 경우의 문제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, B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둘 중 더 중요한 가치를 실현하는 기술 선택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더 중요한 가치를 어떻게 결정할 수 있는가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투표에 의한 사전 결정 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vs. 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시장에 의한 사후 결정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, B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모두 조금씩 양보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절충하여 타협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타협안에 어떻게 만족할 수 있는가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?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, B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모두 실현할 수 있는 새로운 기술에 대한 연구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지금 당장은 어떻게 하란 말인가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원리적으로 불가능한 경우는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사례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: S-Card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합의회의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(2003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http://act.jinbo.net/drupal/node/3010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발단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2000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년부터 서울대 대학본부와 서울대 생협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농협 등이 기존의 학생증에 현금카드와 교통카드 등의 기능을 첨가한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-Card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로 전환하려고 시도했으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2003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년까지 학생들과 갈등 반복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대학본부와 총학생회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공동 주최로 학생 패널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4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명과 이해당사자들 및 전문가 패널을 모아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0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월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6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일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17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일 합의회의 개최한 후 합의 결과 보고서 작성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및 기자회견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-Card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합의회의의 결론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이해 당사자의 입장 상당부분 수용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-Card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도입에 따른 생협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대학본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농협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학생에게 돌아오는 이익 인정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-Card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가 기존의 바코드나 마그네틱 카드보다 보안성이 좋으며 여러 장점이 있다는 점 인정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-Card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로의 일괄 통합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”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불가 합의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학생증 정보의 관리주체는 농협이 될 수 없음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신입생의 강제적 농협 계좌 개설은 개인의 정보통제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금융거래에 관한 선택권을 제한하는 프라이버시권 침해이므로 용납할 수 없음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-Card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의 결말은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서울대학교 대학본부는 합의회의 결과 존중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학생증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경제카드의 일괄 통합 시도 중단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2008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년 신청 사이트의 문구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“ID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능 및 출입기능은 의무사항이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 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금융기능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신용카드 또는 체크카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은 선택사항입니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”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합의회의 결과보고서에 있던 학생증의 주민번호 정보 제거 권고 실제로 이루어짐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http://cbe.snu.ac.kr/files/attach/images/390/811/005/s-card%ED%99%8D%EB%B3%B4%EC%9E%90%EB%A3%8C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62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시장은 유익한 기술을 선택하는가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이윤 극대화에 도움이 되는 기술 선택 편향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아프리카의 말라리아는 왜 퇴치되지 않는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이윤과 무관한 가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또는 장기적으로만 회수할 수 있는 가치는 저평가되는 경향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e.g.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환경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소외 받는 사람을 위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이윤과 무관한 가치를 실현하기 위한 기술 운동들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적정기술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or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중간기술 운동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과학상점 운동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주민으로부터 청탁 받은 연구 수행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노동자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사용자 참여 설계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적정기술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or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중간기술 운동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에른스트 슈마허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&lt;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작은 것이 아름답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&gt; (1973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거대 기술에 기반한 현대 경제 체제의 낭비 지적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경제적으로는 효율적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에너지 면에서는 비효율적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정작 각 지역의 문화와 환경에 적합한 기술과 물건은 부족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지역에 적합한 물건을 지역의 재료를 이용하여 만드는 소규모 제작 기술 필요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역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폴 폴락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부유한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10%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를 위해 공학설계자의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90%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가 일을 하고 있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…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세계의 수십억 고객들이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2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달러짜리 안경과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10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달러짜리 태양전지 손전등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100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달러짜리 집을 바라고 있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적정기술의 실제 사례들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IT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의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-Lab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강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2003-)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한국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국경없는 과학기술연구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‘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나눔과 기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2009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3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세계 현지에 적합한 창의적 공학설계 수행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공대생의 설계 훈련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+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3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세계의 요구 해결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수동세탁기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사탕수수 숯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등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8" name="Picture 2" descr="http://img.hani.co.kr/imgdb/resize/2010/0127/1264571625_6000395238_20100127.JPG"/>
          <p:cNvPicPr/>
          <p:nvPr/>
        </p:nvPicPr>
        <p:blipFill>
          <a:blip r:embed="rId1"/>
          <a:stretch/>
        </p:blipFill>
        <p:spPr>
          <a:xfrm>
            <a:off x="1187280" y="471492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http://img.hani.co.kr/imgdb/resize/2010/0127/1264571684_6000395234_20100127.JPG"/>
          <p:cNvPicPr/>
          <p:nvPr/>
        </p:nvPicPr>
        <p:blipFill>
          <a:blip r:embed="rId2"/>
          <a:stretch/>
        </p:blipFill>
        <p:spPr>
          <a:xfrm>
            <a:off x="4356000" y="471492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http://img.hani.co.kr/imgdb/resize/2010/0127/6000395239_20100127.JPG"/>
          <p:cNvPicPr/>
          <p:nvPr/>
        </p:nvPicPr>
        <p:blipFill>
          <a:blip r:embed="rId2"/>
          <a:stretch/>
        </p:blipFill>
        <p:spPr>
          <a:xfrm>
            <a:off x="-1168560" y="0"/>
            <a:ext cx="1048248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TextBox 4"/>
          <p:cNvSpPr/>
          <p:nvPr/>
        </p:nvSpPr>
        <p:spPr>
          <a:xfrm>
            <a:off x="2987640" y="476280"/>
            <a:ext cx="53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물을 길어 나르는 큐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드럼</a:t>
            </a:r>
            <a:br>
              <a:rPr sz="2400"/>
            </a:b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어린 아이라도 약 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100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리터의 물을 </a:t>
            </a:r>
            <a:br>
              <a:rPr sz="2400"/>
            </a:b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손쉽게 운반할 수 있게 설계돼 있다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질문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1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이 사회적으로 구성되고 선택되는 것이라면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별도의 사회적 합의가 필요한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의 사회적 구성론은 서로 다른 이해관계를 가진 다양한 관련 사회집단 사이의 협상과 타협을 통해 기술이 구성된다고 주장했을 뿐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그 협상과 타협이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사회적 합의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”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라고는 주장하지 않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의 구성에서 배제되는 사회집단도 존재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이윤을 초월한 기술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,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지속가능한가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대부분 사회적 기금과 자원봉사 연구인력을 통해 운영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만약 사회적 지원이 끊기면 운영 불가능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이윤이 아닌 방식으로 대가를 받는 모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리눅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위키피디아의 기부 모델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적정 기술도 수익을 낳을 수 있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100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달러 노트북 프로젝트는 넷북의 동기 제공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오늘날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C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도 초기엔 일종의 적정기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간접적인 방식의 상호 이익 관계 형성 가능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외부의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따뜻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”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 지원으로만 지속된다면 한계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자생력 위한 자체의 수익 모델 창조 필요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위비 바이커의 형광등 사례 연구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고효율 형광등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s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고집적 형광등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전등 제조사에서 고효율 형광등 개발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발전소 회사는 고효율 형광등의 판매가 전력 소비 감소를 초래할 것으로 우려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발전소 회사와 전등 제조사 사이의 합의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고집적 형광등을 개발하기 전까지 고효율 형광등을 적극적으로 팔지 않기로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함의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이윤 창출에 도움이 되지 않는 기술의 배제 경향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소비자라는 사회 그룹은 기술 구성 과정에서 배제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질문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2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시장에서 사회적으로 유익한 기술이 선택된다면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별도의 사회적 합의가 필요한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시장을 통하지 않는 공공 기술 프로젝트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e.g.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청계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새만금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4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대강 등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국가에 의한 기술 연구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&amp;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개발 지원 문제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시장을 통해서 기술 선택이 이루어지지만 그 사회적 영향이 너무 큰 경우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시장에 의한 선택이 특정한 편향을 낫는다면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공공적 성격의 현대 기술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의 영향 범위 매우 포괄적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때로는 시민의 동의나 사용 여부와 무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e.g.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쓰리마일 섬 원자력 발전소 사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도시 설계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의 영향력은 소유권이나 사용의 범위보다 큼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일부 기술 연구개발은 국민들의 세금에 의존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업이나 대학의 연구개발조차 국가 지원과 연계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많은 나라에서는 정부 기관의 지원을 받은 연구 결과를 정부가 아닌 대학의 특허로 받을 수 있도록 허용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세금의 사용에 대한 민주적 통제는 당연한 권리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그러나 불필요한 권리 행사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이데올로기로서의 기술결정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특정 기술은 거스를 수 없는 시대의 숙명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대세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</a:t>
            </a:r>
            <a:br>
              <a:rPr sz="2600"/>
            </a:b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우리가 할 일은 그에 적응하여 낙오되지 않는 것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Vs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은 사회적 협상의 결과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필연적인 방향 없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전문가주의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어려운 기술적 문제는 그에 대해 대처할 수 있는 전문가들이 판단과 결정을 내리는 것이 좋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</a:t>
            </a:r>
            <a:br>
              <a:rPr sz="2600"/>
            </a:b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시민들은 비합리적이고 감정적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Vs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시민적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지식의 중요성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시민적 지식의 중요성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제초제의 유해성에 대한 평가 사례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과학자들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교과서에 의존하여 위험하지 않다고 결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이후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정확한 조건에서 생산되고 정확한 조건에서 사용되는 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과학문헌에 따르면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’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아무런 문제 없다고 입장 수정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농장 노동자들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사용에 관한 전문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정확한 사용조건 준수 불가능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함의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교과서와 실험실에서 생산된 지식은 실제 사용과 관련된 모든 조건을 고려하지 못한 경우 많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정당성과 효과성의 상관관계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민주화된 사회의 경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(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절차적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정당성을 획득한 정책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즉 민주적으로 결정된 정책이 실제로도 잘 집행되어 소기의 성과를 거둘 수 있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.g.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방사능 폐기물 처리장 부지 선정의 경우</a:t>
            </a:r>
            <a:br>
              <a:rPr sz="2600"/>
            </a:b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애초에 환경주의자들의 주장은 국민들로부터 큰 지지를 받지 못했으나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정부에 의해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강제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’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 폐기물 처리장 부지가 부안으로 정해짐에 따라 국민들의 강한 반발에 부딪히게 되었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한동안 난항을 거친 후에야 주민투표를 통해 경주로 결정되었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시민참여의 모델들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선호취합적 참여 모델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s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숙의적 참여 모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선호취합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투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공청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/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청문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여론조사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숙의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규제협상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합의회의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시민배심원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시민자문위원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포커스그룹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시나리오워크샵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공론조사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숙의적 과정을 필요로 하는 참여 모델 특히 중요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전문성이 요구되는 분야이므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사실의 문제와 가치 및 선호의 문제 사이의 연관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숙의 과정을 통한 가치 및 선호의 변경 가능성 전제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예컨대 사실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(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방사능 폐기물 처리장의 유해성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)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에 대한 합의가 사안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(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처리장의 건설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 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유무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)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에 대한 선호도를 바꿀 수 있다는 기대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8:20:45Z</dcterms:created>
  <dc:creator>zolaist</dc:creator>
  <dc:description/>
  <dc:language>en-US</dc:language>
  <cp:lastModifiedBy>zolaist</cp:lastModifiedBy>
  <dcterms:modified xsi:type="dcterms:W3CDTF">2010-11-11T11:47:11Z</dcterms:modified>
  <cp:revision>55</cp:revision>
  <dc:subject/>
  <dc:title>기술 개발에도  사회적 합의가 필요한가?</dc:title>
</cp:coreProperties>
</file>